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1518-FCF9-46D4-9B03-9511D4B67F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6EE5-D2AF-49EF-AE82-9AFA6706F2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E3B0-B4A9-43AA-B838-6423213652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5561-0643-4856-95DF-3918B858C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453-D57F-4464-B3CA-A40347FD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07A4-206B-473F-9DB0-60B32EC3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45B-FDDA-4C7B-9B55-C437116B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294-8961-4665-8889-B4A5FB83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AD5-984B-437C-BFC1-1D0876BB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2E1-7984-4A71-A4F4-9751E0A0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C57-D699-48CB-BF4B-B9C1747D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44C-C669-4B30-BC6C-47042F79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F7A-F956-48AF-AFB1-7868CA95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371-5590-4536-B2DB-94A4D3ED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A19-C746-4C8D-BEFA-7A32C5F5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0F2-A243-4292-AAD6-ABB75835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CF1C-605A-41BD-ABA4-808584738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3"/>
          <p:cNvSpPr/>
          <p:nvPr/>
        </p:nvSpPr>
        <p:spPr>
          <a:xfrm>
            <a:off x="611280" y="1708200"/>
            <a:ext cx="8001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ез мнемосхем для высокоавтоматизиров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анций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D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систем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4859280" y="3076560"/>
            <a:ext cx="4033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охотов Дмитрий Серге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ОО «Компания ДЭП», 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фимов Алексей Валенти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фимов Владимир Алексее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У МЭИ, Моск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685800" cy="6192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4"/>
          <p:cNvSpPr/>
          <p:nvPr/>
        </p:nvSpPr>
        <p:spPr>
          <a:xfrm>
            <a:off x="0" y="62712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971640" y="1238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ЕЛАВЭКСПО – 202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6874560" y="123840"/>
            <a:ext cx="21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-25 апреля 202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Чебокс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71640" y="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Управление проек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08000" y="540720"/>
            <a:ext cx="89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уществляется на основе конфигуратора системы автоматизации САПР ЦВК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79280" y="1059480"/>
            <a:ext cx="40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ор на дереве модели подстанции, РУ,  яче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580000" y="10591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точнение деталей прорисов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1"/>
          <a:stretch/>
        </p:blipFill>
        <p:spPr>
          <a:xfrm>
            <a:off x="228600" y="1419120"/>
            <a:ext cx="8915400" cy="2990880"/>
          </a:xfrm>
          <a:prstGeom prst="rect">
            <a:avLst/>
          </a:prstGeom>
          <a:ln w="0">
            <a:noFill/>
          </a:ln>
        </p:spPr>
      </p:pic>
      <p:cxnSp>
        <p:nvCxnSpPr>
          <p:cNvPr id="139" name="Прямая со стрелкой 18"/>
          <p:cNvCxnSpPr/>
          <p:nvPr/>
        </p:nvCxnSpPr>
        <p:spPr>
          <a:xfrm flipH="1">
            <a:off x="4355640" y="1276200"/>
            <a:ext cx="1729440" cy="15120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40" name="Прямая со стрелкой 19"/>
          <p:cNvCxnSpPr/>
          <p:nvPr/>
        </p:nvCxnSpPr>
        <p:spPr>
          <a:xfrm flipH="1">
            <a:off x="1618920" y="1275840"/>
            <a:ext cx="2016720" cy="18723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41" name="Прямая со стрелкой 20"/>
          <p:cNvCxnSpPr/>
          <p:nvPr/>
        </p:nvCxnSpPr>
        <p:spPr>
          <a:xfrm flipH="1">
            <a:off x="1691640" y="1275840"/>
            <a:ext cx="1585080" cy="115164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42" name="Прямая со стрелкой 21"/>
          <p:cNvCxnSpPr/>
          <p:nvPr/>
        </p:nvCxnSpPr>
        <p:spPr>
          <a:xfrm flipH="1">
            <a:off x="1475640" y="1275840"/>
            <a:ext cx="1367640" cy="100872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43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F35E-80F9-481A-A9D7-4B21685407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Выход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08000" y="540720"/>
            <a:ext cx="90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VG файлы описания мнемосхем 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X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файлы описания связей элементов мнемосхем с сигнал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79280" y="1135080"/>
            <a:ext cx="453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 как SVG файлы являются стандартом для графики Интернета, результат синтеза может быть просмотрен в любом Брауз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7592-8860-4D49-A8D2-70E3536E1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6516720" y="1058760"/>
            <a:ext cx="2482920" cy="3787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2"/>
          <a:stretch/>
        </p:blipFill>
        <p:spPr>
          <a:xfrm>
            <a:off x="539640" y="1924200"/>
            <a:ext cx="34797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1058760"/>
            <a:ext cx="79596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описания системы автоматизаци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D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ключающий информацию о координатах первичного оборудования, может использоваться для автоматизированной генерации мнемосх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открытого графического форма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DA Sytrack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синтезировать мнемосхемы для А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ены алгоритмы, позволяющие автоматизировать разработку прикладного программного обеспечения для А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"/>
          <p:cNvSpPr/>
          <p:nvPr/>
        </p:nvSpPr>
        <p:spPr>
          <a:xfrm>
            <a:off x="0" y="48420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8616-06AE-4230-A7BB-0FC0475EE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685800" cy="6192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ая соединительная линия 4"/>
          <p:cNvSpPr/>
          <p:nvPr/>
        </p:nvSpPr>
        <p:spPr>
          <a:xfrm>
            <a:off x="0" y="62712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971640" y="1238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ЕЛАВЭКСПО – 202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6874560" y="123840"/>
            <a:ext cx="21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-25 апреля 202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Чебокс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90400" y="1994040"/>
            <a:ext cx="7961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859280" y="3076560"/>
            <a:ext cx="40338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фимов Алексей Валенти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ofi56@bk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Постановка задачи – автоматизация проектирования мнемосх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4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4"/>
          <p:cNvSpPr/>
          <p:nvPr/>
        </p:nvSpPr>
        <p:spPr>
          <a:xfrm>
            <a:off x="4140360" y="3724200"/>
            <a:ext cx="2232000" cy="935280"/>
          </a:xfrm>
          <a:prstGeom prst="ellipse">
            <a:avLst/>
          </a:prstGeom>
          <a:noFill/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108000" y="1216080"/>
            <a:ext cx="3816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рафического отображения информации посредством ПТК и АСУ ТП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0" y="4084560"/>
            <a:ext cx="385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9. При проектировании цифровой ПС должны быть разработаны и впоследствии включены в состав электронной документации цифровой ПС файлы электронной конфигурации SSD и SC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179280" y="2643120"/>
            <a:ext cx="3348000" cy="5763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0"/>
          <p:cNvSpPr/>
          <p:nvPr/>
        </p:nvSpPr>
        <p:spPr>
          <a:xfrm>
            <a:off x="0" y="3219480"/>
            <a:ext cx="399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ифровой питающий центр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ебования к технологическому проектировани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ифровых подстанций напряжением 110-220 к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узловых цифровых подстанций напряжением 35 к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2"/>
          <a:stretch/>
        </p:blipFill>
        <p:spPr>
          <a:xfrm>
            <a:off x="23760" y="588960"/>
            <a:ext cx="3816360" cy="612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"/>
          <p:cNvPicPr/>
          <p:nvPr/>
        </p:nvPicPr>
        <p:blipFill>
          <a:blip r:embed="rId3"/>
          <a:stretch/>
        </p:blipFill>
        <p:spPr>
          <a:xfrm>
            <a:off x="3924360" y="627120"/>
            <a:ext cx="5111640" cy="423864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6"/>
          <p:cNvSpPr/>
          <p:nvPr/>
        </p:nvSpPr>
        <p:spPr>
          <a:xfrm>
            <a:off x="6553080" y="480384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9DF8-646F-4DA8-BE2E-500BEAECC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258920" y="50760"/>
            <a:ext cx="696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труктура информационной модели по МЭК 61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55480"/>
            <a:ext cx="7093080" cy="3672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248000" y="3457440"/>
            <a:ext cx="489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SCD файле представл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ервичное оборудование с принадлежностью к РУ и ячейка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топология главной схемы (выводы оборудования и узлы связ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логические узлы, реализующие функции автомат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ИЭУ (IE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строй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цифровая с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для каждого оборудования предусмотрены его координаты на схем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1"/>
          <p:cNvSpPr/>
          <p:nvPr/>
        </p:nvSpPr>
        <p:spPr>
          <a:xfrm>
            <a:off x="6553080" y="48070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4FE8-3F5C-4381-9AC9-5A6055337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Структурная схе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6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вязь данных логических узлов с элементами мнемосх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2697840" y="627120"/>
            <a:ext cx="161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Level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Объект 7"/>
          <p:cNvGraphicFramePr/>
          <p:nvPr/>
        </p:nvGraphicFramePr>
        <p:xfrm>
          <a:off x="826920" y="1112760"/>
          <a:ext cx="7366320" cy="34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12760"/>
                    <a:ext cx="736632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6" name="Прямая со стрелкой 13"/>
          <p:cNvCxnSpPr>
            <a:stCxn id="73" idx="2"/>
          </p:cNvCxnSpPr>
          <p:nvPr/>
        </p:nvCxnSpPr>
        <p:spPr>
          <a:xfrm flipH="1">
            <a:off x="3491640" y="934920"/>
            <a:ext cx="11880" cy="342000"/>
          </a:xfrm>
          <a:prstGeom prst="straightConnector1">
            <a:avLst/>
          </a:prstGeom>
          <a:ln w="25560">
            <a:solidFill>
              <a:srgbClr val="7575d1"/>
            </a:solidFill>
            <a:miter/>
            <a:tailEnd len="med" type="arrow" w="med"/>
          </a:ln>
        </p:spPr>
      </p:cxnSp>
      <p:sp>
        <p:nvSpPr>
          <p:cNvPr id="77" name="Номер слайда 5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E9B4-0CBE-43FB-AE4D-4ED8067B0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VG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формат для граф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611280" y="3003480"/>
            <a:ext cx="792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матизированное формирование мнемосхем возможно только при наличии открытого формата входных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D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ременные разработки широко используют формат масштабируемой векторной графики SVG (Scalable Vector Graphics), также базирующийся 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539640" y="555480"/>
            <a:ext cx="813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SCD представляет собой текстовый файл на языке описания подстанций SCL (Substation Configuration Language) формата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55640" y="1069200"/>
            <a:ext cx="77770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Level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L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10"&gt;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ltiplier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t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&gt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Присоединение ТСН 10 кВ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ingEquipment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Q1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BR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ключатель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x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401"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y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744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dir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ertical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ode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d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AA1K1Q01A1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Verdana"/>
                <a:ea typeface="Calibri"/>
              </a:rPr>
              <a:t>ldInst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="LD0"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nClass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SWI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”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Verdana"/>
                <a:ea typeface="Calibri"/>
              </a:rPr>
              <a:t>prefix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1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”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nInst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52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52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48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48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    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ingEquipment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&gt;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763640" y="422820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&lt;rect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x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y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width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1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height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1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style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fill: none; stroke: black;"</a:t>
            </a:r>
            <a:r>
              <a:rPr b="1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/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C834-7BC3-4B8E-A232-260C482A9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труктура проекта АРМ в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CADA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y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0" y="555480"/>
            <a:ext cx="4610160" cy="4267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4716360" y="84348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Мнемосх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380360" y="8434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Шаб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FC6A-9CB5-4DFE-AB1C-809AF2CC4B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4"/>
          <p:cNvCxnSpPr/>
          <p:nvPr/>
        </p:nvCxnSpPr>
        <p:spPr>
          <a:xfrm flipH="1">
            <a:off x="4139640" y="1131480"/>
            <a:ext cx="719640" cy="93564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pic>
        <p:nvPicPr>
          <p:cNvPr id="94" name="Picture 12" descr=""/>
          <p:cNvPicPr/>
          <p:nvPr/>
        </p:nvPicPr>
        <p:blipFill>
          <a:blip r:embed="rId2"/>
          <a:stretch/>
        </p:blipFill>
        <p:spPr>
          <a:xfrm>
            <a:off x="5148360" y="2066760"/>
            <a:ext cx="3456000" cy="2932200"/>
          </a:xfrm>
          <a:prstGeom prst="rect">
            <a:avLst/>
          </a:prstGeom>
          <a:ln w="0">
            <a:noFill/>
          </a:ln>
        </p:spPr>
      </p:pic>
      <p:cxnSp>
        <p:nvCxnSpPr>
          <p:cNvPr id="95" name="Прямая со стрелкой 12"/>
          <p:cNvCxnSpPr/>
          <p:nvPr/>
        </p:nvCxnSpPr>
        <p:spPr>
          <a:xfrm>
            <a:off x="7811640" y="1131480"/>
            <a:ext cx="1080" cy="8643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труктура проекта АРМ в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CADA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y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24360" y="5558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Мнемосх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067280" y="1708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Шаб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484360" y="91656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me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148360" y="91656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me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771640" y="199548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s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724360" y="199548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s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1"/>
          <a:stretch/>
        </p:blipFill>
        <p:spPr>
          <a:xfrm>
            <a:off x="395280" y="2211480"/>
            <a:ext cx="4032360" cy="238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"/>
          <p:cNvPicPr/>
          <p:nvPr/>
        </p:nvPicPr>
        <p:blipFill>
          <a:blip r:embed="rId2"/>
          <a:stretch/>
        </p:blipFill>
        <p:spPr>
          <a:xfrm>
            <a:off x="0" y="1203480"/>
            <a:ext cx="4859280" cy="215640"/>
          </a:xfrm>
          <a:prstGeom prst="rect">
            <a:avLst/>
          </a:prstGeom>
          <a:ln w="0">
            <a:noFill/>
          </a:ln>
        </p:spPr>
      </p:pic>
      <p:cxnSp>
        <p:nvCxnSpPr>
          <p:cNvPr id="107" name="Прямая со стрелкой 18"/>
          <p:cNvCxnSpPr/>
          <p:nvPr/>
        </p:nvCxnSpPr>
        <p:spPr>
          <a:xfrm>
            <a:off x="2195640" y="1418760"/>
            <a:ext cx="792720" cy="5770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08" name="Прямая со стрелкой 20"/>
          <p:cNvCxnSpPr/>
          <p:nvPr/>
        </p:nvCxnSpPr>
        <p:spPr>
          <a:xfrm flipH="1">
            <a:off x="1042200" y="1418760"/>
            <a:ext cx="2089800" cy="7930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09" name="Прямоугольник 22"/>
          <p:cNvSpPr/>
          <p:nvPr/>
        </p:nvSpPr>
        <p:spPr>
          <a:xfrm>
            <a:off x="4932360" y="1131840"/>
            <a:ext cx="396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ListOpcObjs NameObj="Q" OpcName="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П3\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\0001)" VisNoCon="false" VisAsParent="true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"/>
          <p:cNvPicPr/>
          <p:nvPr/>
        </p:nvPicPr>
        <p:blipFill>
          <a:blip r:embed="rId3"/>
          <a:stretch/>
        </p:blipFill>
        <p:spPr>
          <a:xfrm>
            <a:off x="4500720" y="2355840"/>
            <a:ext cx="4643280" cy="190512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25"/>
          <p:cNvCxnSpPr/>
          <p:nvPr/>
        </p:nvCxnSpPr>
        <p:spPr>
          <a:xfrm flipV="1">
            <a:off x="1258560" y="2426760"/>
            <a:ext cx="4034520" cy="21672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12" name="Rectangle 7"/>
          <p:cNvSpPr/>
          <p:nvPr/>
        </p:nvSpPr>
        <p:spPr>
          <a:xfrm>
            <a:off x="6227640" y="156384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сылка на структурированную переменну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Прямая со стрелкой 32"/>
          <p:cNvCxnSpPr/>
          <p:nvPr/>
        </p:nvCxnSpPr>
        <p:spPr>
          <a:xfrm flipV="1">
            <a:off x="7524360" y="1347480"/>
            <a:ext cx="1080" cy="2880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14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000F-B7C8-4710-9218-68E113D443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39640" y="0"/>
            <a:ext cx="813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Исход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08000" y="1073160"/>
            <a:ext cx="777708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Level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L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10"&gt;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ltiplier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t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&gt;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/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Присоединение ТСН 10 кВ"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ingEquipment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Q1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BR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ключатель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x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401"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y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744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dir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ertical"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ode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d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AA1K1Q01A1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Verdana"/>
                <a:ea typeface="Calibri"/>
              </a:rPr>
              <a:t>ldInst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="LD0"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nClass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SWI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”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Verdana"/>
                <a:ea typeface="Calibri"/>
              </a:rPr>
              <a:t>prefix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1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”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nInst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52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52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48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48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     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ingEquipment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&gt;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835280" y="3292560"/>
            <a:ext cx="7175520" cy="17208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50920" y="627120"/>
            <a:ext cx="12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фай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5003640" y="2932200"/>
            <a:ext cx="399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шаблонов элементов (типовых блок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10"/>
          <p:cNvCxnSpPr/>
          <p:nvPr/>
        </p:nvCxnSpPr>
        <p:spPr>
          <a:xfrm flipH="1">
            <a:off x="2268360" y="1635120"/>
            <a:ext cx="648360" cy="1658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3" name="Прямая со стрелкой 12"/>
          <p:cNvCxnSpPr/>
          <p:nvPr/>
        </p:nvCxnSpPr>
        <p:spPr>
          <a:xfrm flipH="1">
            <a:off x="2555280" y="1779120"/>
            <a:ext cx="432360" cy="15138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4" name="Прямая со стрелкой 17"/>
          <p:cNvCxnSpPr/>
          <p:nvPr/>
        </p:nvCxnSpPr>
        <p:spPr>
          <a:xfrm>
            <a:off x="1186920" y="2139480"/>
            <a:ext cx="3817080" cy="15850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5" name="Прямая со стрелкой 19"/>
          <p:cNvCxnSpPr/>
          <p:nvPr/>
        </p:nvCxnSpPr>
        <p:spPr>
          <a:xfrm>
            <a:off x="1115640" y="2500200"/>
            <a:ext cx="3817080" cy="15120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26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FB02-6D90-4D6D-A650-B4B3F9C11D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0"/>
            <a:ext cx="792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Алгоритм форм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648360"/>
            <a:ext cx="8282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новка УГО из шаблон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На основе данных о расположении оборудования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CD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УГО типовых блоков можно расставить на чертеже мнемосхемы простейши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вадратно гнездов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тодом, задавая каждому блоку его уникальное обозначе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единение аппарато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основе данных о подключениях выводов оборудования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ermina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 к узлам связи (connectivityNode). Определение координат узла связи может быть выполнено на основе анализа топологического графа схемы, вершинами которого являются координаты выводов подключенных УГО оборудования и узлов связ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новка индикаторов места управл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о данным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o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логических узл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CSW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связанных с оборудова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новка индикаторов аналоговых сигнал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На основе логических узл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MXU, MMX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ходящих в наборы данных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DataSet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, передаваемых п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M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ь УГО с переменными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динамизации элементов схемы. Для этого могут использоваться описания объектов данных логических узлов, которые затем должн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ть связаны с сигналами объекта управления. Например, в логическом узле управления коммутационным аппаратом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CSW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 положение выключателя - AA1K1Q01A1$LD0$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CSWI1$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o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5131-FDC6-44A7-8D92-8DCEFA4980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9:48:19Z</dcterms:created>
  <dc:creator>Acer</dc:creator>
  <dc:description/>
  <dc:language>en-US</dc:language>
  <cp:lastModifiedBy>Пользователь Windows</cp:lastModifiedBy>
  <dcterms:modified xsi:type="dcterms:W3CDTF">2024-04-15T13:15:06Z</dcterms:modified>
  <cp:revision>472</cp:revision>
  <dc:subject/>
  <dc:title>Слайд 1</dc:title>
</cp:coreProperties>
</file>