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sldImg"/>
          </p:nvPr>
        </p:nvSpPr>
        <p:spPr>
          <a:xfrm>
            <a:off x="215640" y="812520"/>
            <a:ext cx="7116840" cy="399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3720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0240" cy="52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240DC4-4EDE-4492-91E1-9E7BA6F1B31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79451D-19B6-4F08-AE13-E402899F17C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E55251-C48C-45E6-A175-3BBB943301B2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6213FC0-7CEA-4F1F-88AA-DF0077AC2186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DC7FB6-ECE7-4A7F-B8BB-60DC52B8E46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C32F72-1408-4D39-B9C7-70A985F4F5B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69F53-447B-4484-AA12-63452489101E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DA6B2E5-8B57-417A-B800-BD502312AA8B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A1E9B4-A513-48EC-A1E2-638990EA8DE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A7B7EE-A2F3-4BB9-89FE-57B074A07C1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9CA5A5D-6B00-4387-8C72-3E8E03C4E78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9F767A8-F932-4173-95B5-55AAD48D32D9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BFA261-8C03-4BC5-BF5E-2E5EB7B2A36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8E569A-903E-4783-8E03-D0D73BEF46B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12"/>
          <p:cNvSpPr/>
          <p:nvPr/>
        </p:nvSpPr>
        <p:spPr>
          <a:xfrm>
            <a:off x="4278240" y="10156680"/>
            <a:ext cx="3270240" cy="52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EE976C0-0FC5-4A4C-959C-5BEA83BF88D8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sldImg"/>
          </p:nvPr>
        </p:nvSpPr>
        <p:spPr>
          <a:xfrm>
            <a:off x="217440" y="812880"/>
            <a:ext cx="7124760" cy="4008240"/>
          </a:xfrm>
          <a:prstGeom prst="rect">
            <a:avLst/>
          </a:prstGeom>
          <a:ln w="0">
            <a:noFill/>
          </a:ln>
        </p:spPr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3333C-36E0-4E4D-9CBE-613BC8FB5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EB09-7641-4297-989E-721A3FC86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E7522-1E5D-426C-8EAD-0C07D6F32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652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29760" y="132696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652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29760" y="3038400"/>
            <a:ext cx="291708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9CFB-3D65-4A84-94B1-8498797FAB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9844-DEC3-4B0F-8D1B-4672A899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2789D-953A-406E-8297-C90D2D7C77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03AFA-88FA-4537-B185-1808F4E83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564F-F1A4-4DEC-8CBC-69E0DC304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225360"/>
            <a:ext cx="9059760" cy="433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D8F7-398A-4221-8D02-FE2E1D857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B1B0F-D2EC-4BFE-802E-C3F38265E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5480" y="303840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F09B-06DD-4BC6-AF71-B76097834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5480" y="1326960"/>
            <a:ext cx="442080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3038400"/>
            <a:ext cx="9059760" cy="15627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9E22B-2C73-42FE-BDD6-84C091AEE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225360"/>
            <a:ext cx="9059760" cy="935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326960"/>
            <a:ext cx="9059760" cy="327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4000"/>
          </a:bodyPr>
          <a:p>
            <a:pPr marL="253800" indent="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53800" indent="-253800">
              <a:lnSpc>
                <a:spcPct val="93000"/>
              </a:lnSpc>
              <a:spcBef>
                <a:spcPts val="1500"/>
              </a:spcBef>
              <a:spcAft>
                <a:spcPts val="88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640"/>
            <a:ext cx="23367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640"/>
            <a:ext cx="318456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640"/>
            <a:ext cx="2337120" cy="379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60B369D7-EE20-41F2-84E8-C36DDE19D891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semant/" TargetMode="External"/><Relationship Id="rId3" Type="http://schemas.openxmlformats.org/officeDocument/2006/relationships/hyperlink" Target="http://www.w3.or/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502920" y="720360"/>
            <a:ext cx="9070920" cy="2700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нение онтологий для анализа функционального описания терминала РЗ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504720" y="3600360"/>
            <a:ext cx="9070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440" bIns="0" anchor="ctr">
            <a:noAutofit/>
          </a:bodyPr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Noto Sans CJK SC"/>
              </a:rPr>
              <a:t>Петров С.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РЗА-Форум, Чебоксары 202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ущност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ступень МТЗ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мерительный орган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уставка срабатывания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коэффициент возврат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502920" y="728280"/>
            <a:ext cx="9070920" cy="466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вяз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коэффициент возврата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уставка срабатывания» часть «измерительный орган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измерительный орган» часть «ступень 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«ступень МТЗ» часть «МТЗ»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ждый занят своим делом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эксперт ПрО описывает ПрО и онтологию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программист разрабатывает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* РЭ по эксплуатации терминала БЭ2502.А020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ческое моделирование предприятий: методы и технологии. Уральский университет 20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ршков С. Введение в онтологическое моделирование. ООО «ТриниДат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мехун Я. А. Онтологии в системах, основанных на знаниях: возможности их примене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ru-RU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502920" y="720720"/>
            <a:ext cx="9070920" cy="45007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62"/>
              </a:spcBef>
              <a:spcAft>
                <a:spcPts val="62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а эксперта предметной области (ПрО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писание Пр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Результат выполнения задач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ие требования (ТТ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техническое задание (ТЗ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функциональное описание устройства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чи программис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изуче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разработка П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едостатки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ремя на взаимодействие с экспертом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озможное неверное толкование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недопонимание описания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Способ устранения недостатков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минимизация участия программиста в анализ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О (в идеале исключение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анализ ПрО при помощи онтологий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есть артефакт на основе терминов и отношений, выраженных с использованием естественного языка. В то же время онтология есть артефакт, предназначенный для использования компьюте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5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Онтология содействует обеспечению смыслового обмена, т. к. её термины связаны с формальными определениями значений, представленных таким образом, чтобы их можно было обрабатывать вычислительными систем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ГОСТ Р ИСО/МЭК 21838-1-202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Анализ ПрО при помощи онтологий включа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декомпозиция ПрО (выявление сущностей ПрО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описание свойств сущностей ПрО (определение  функциональных свойств сущностей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- выявление связей сущностей Пр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502920" y="899640"/>
            <a:ext cx="90709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Пример ПрО*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ТЗ. МТЗ имеет три ступени: МТЗ-1, МТЗ-2, МТЗ-3. Каждая из ступеней представляет собой совокупность нескольких измерительных органов (ИО), объединенных общей логикой. Каждый ИО МТЗ имеет независимую регулируемую уставку срабатывания и коэффициент возвра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1" descr=""/>
          <p:cNvPicPr/>
          <p:nvPr/>
        </p:nvPicPr>
        <p:blipFill>
          <a:blip r:embed="rId1"/>
          <a:stretch/>
        </p:blipFill>
        <p:spPr>
          <a:xfrm>
            <a:off x="0" y="0"/>
            <a:ext cx="10080720" cy="566892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225360"/>
            <a:ext cx="9070920" cy="493920"/>
          </a:xfrm>
          <a:prstGeom prst="rect">
            <a:avLst/>
          </a:prstGeom>
          <a:noFill/>
          <a:ln w="0">
            <a:noFill/>
          </a:ln>
        </p:spPr>
        <p:txBody>
          <a:bodyPr lIns="0" rIns="0" tIns="1764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ФГБОУ ВО ЧГУ им. И.Н. Ульянова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502920" y="738360"/>
            <a:ext cx="9070920" cy="464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Resource description framework (RDF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owl:DatatypeProperty rdf:about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2"/>
              </a:rPr>
              <a:t>http://www.semant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icweb.org/barmaley/ontologies/2024/3/untitled-ontol ogy-2#MTZ"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rdfs:subPropertyOf rdf:resource="</a:t>
            </a:r>
            <a:r>
              <a:rPr b="0" lang="ru-RU" sz="3200" spc="-1" strike="noStrike" u="sng">
                <a:solidFill>
                  <a:srgbClr val="ccccff"/>
                </a:solidFill>
                <a:uFillTx/>
                <a:latin typeface="Times New Roman"/>
                <a:hlinkClick r:id="rId3"/>
              </a:rPr>
              <a:t>http://www.w3.or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g/2002/07/owl#topDataProperty"/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&lt;/owl:DatatypeProperty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3000"/>
              </a:lnSpc>
              <a:spcBef>
                <a:spcPts val="88"/>
              </a:spcBef>
              <a:spcAft>
                <a:spcPts val="88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781200" cy="6285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11-23T17:30:41Z</dcterms:created>
  <dc:creator/>
  <dc:description/>
  <dc:language>en-US</dc:language>
  <cp:lastModifiedBy>s.v.petrov</cp:lastModifiedBy>
  <dcterms:modified xsi:type="dcterms:W3CDTF">2024-04-24T05:15:18Z</dcterms:modified>
  <cp:revision>43</cp:revision>
  <dc:subject/>
  <dc:title>      ФГБОУ ВО ЧГУ им. И.Н. Ульянова</dc:title>
</cp:coreProperties>
</file>