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EB91-E172-421F-9707-0B759EF691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CE76-330A-44DA-BB59-BE5CED0EE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0B26-8104-4C95-BD55-49B37D9A59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1A6F-51B7-48CD-9539-3A7E0BE37B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228-92FA-448C-B097-5DD9AA56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947-8DE9-4496-91A2-20947EE3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B80-94DB-4699-AA53-A9D3D388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CD3-65B1-466A-A372-366B572F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0F5-F7F5-4D51-8265-C0BCDD6C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0BD-E3FA-4F8D-A803-135F6950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0C6-E95E-429F-BF96-A816778C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4F1-D710-4168-85E1-14D82FD4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FF8-0A8A-48E9-8D8F-58E1128C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726-7A0D-4959-950E-44CC7B76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E10-3249-495A-9481-82B2F861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752-7280-43CB-9591-5F2477B9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E461-94DF-490D-A071-13601D163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3"/>
          <p:cNvSpPr/>
          <p:nvPr/>
        </p:nvSpPr>
        <p:spPr>
          <a:xfrm>
            <a:off x="611280" y="1708200"/>
            <a:ext cx="8001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ез мнемосхем для высокоавтоматизиров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анций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D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систем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4859280" y="3076560"/>
            <a:ext cx="4033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охотов Дмитрий Серге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ОО «Компания ДЭП», 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Алексей Валенти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Владимир Алексее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У МЭИ, Моск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685800" cy="6192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4"/>
          <p:cNvSpPr/>
          <p:nvPr/>
        </p:nvSpPr>
        <p:spPr>
          <a:xfrm>
            <a:off x="0" y="62712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971640" y="1238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ЕЛАВЭКСПО – 202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6874560" y="123840"/>
            <a:ext cx="21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-25 апреля 202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Чебокс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71640" y="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Управление проек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08000" y="540720"/>
            <a:ext cx="89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уществляется на основе конфигуратора системы автоматизации САПР ЦВК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79280" y="1059480"/>
            <a:ext cx="40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на дереве модели подстанции, РУ,  яче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580000" y="10591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очнение деталей прорисов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228600" y="1419120"/>
            <a:ext cx="8915400" cy="2990880"/>
          </a:xfrm>
          <a:prstGeom prst="rect">
            <a:avLst/>
          </a:prstGeom>
          <a:ln w="0">
            <a:noFill/>
          </a:ln>
        </p:spPr>
      </p:pic>
      <p:cxnSp>
        <p:nvCxnSpPr>
          <p:cNvPr id="139" name="Прямая со стрелкой 18"/>
          <p:cNvCxnSpPr/>
          <p:nvPr/>
        </p:nvCxnSpPr>
        <p:spPr>
          <a:xfrm flipH="1">
            <a:off x="4355640" y="1276200"/>
            <a:ext cx="1729440" cy="1512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0" name="Прямая со стрелкой 19"/>
          <p:cNvCxnSpPr/>
          <p:nvPr/>
        </p:nvCxnSpPr>
        <p:spPr>
          <a:xfrm flipH="1">
            <a:off x="1618920" y="1275840"/>
            <a:ext cx="2016720" cy="18723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1" name="Прямая со стрелкой 20"/>
          <p:cNvCxnSpPr/>
          <p:nvPr/>
        </p:nvCxnSpPr>
        <p:spPr>
          <a:xfrm flipH="1">
            <a:off x="1691640" y="1275840"/>
            <a:ext cx="1585080" cy="115164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2" name="Прямая со стрелкой 21"/>
          <p:cNvCxnSpPr/>
          <p:nvPr/>
        </p:nvCxnSpPr>
        <p:spPr>
          <a:xfrm flipH="1">
            <a:off x="1475640" y="1275840"/>
            <a:ext cx="1367640" cy="100872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43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CA3F-2053-4522-B606-5C1F26C04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Вы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08000" y="540720"/>
            <a:ext cx="90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VG файлы описания мнемосхем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X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йлы описания связей элементов мнемосхем с сигна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9280" y="1135080"/>
            <a:ext cx="453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 как SVG файлы являются стандартом для графики Интернета, результат синтеза может быть просмотрен в любом Брауз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C473-6E70-40E3-AB2C-A487577F8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6516720" y="1058760"/>
            <a:ext cx="2482920" cy="378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539640" y="1924200"/>
            <a:ext cx="34797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058760"/>
            <a:ext cx="79596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описания системы автоматизаци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D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ключающий информацию о координатах первичного оборудования, может использоваться для автоматизированной генерации мнемосх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открытого графического форм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DA Sytrac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синтезировать мнемосхемы для А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ены алгоритмы, позволяющие автоматизировать разработку прикладного программного обеспечения для А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>
            <a:off x="0" y="48420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BAAC-958A-4BB1-B8BB-4D9D821C5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68580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0" y="62712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971640" y="1238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ЕЛАВЭКСПО – 202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6874560" y="123840"/>
            <a:ext cx="21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-25 апреля 202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Чебокс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90400" y="1994040"/>
            <a:ext cx="7961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859280" y="3076560"/>
            <a:ext cx="40338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Алексей Валенти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ofi56@bk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Постановка задачи – автоматизация проектирования мнемосх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4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4"/>
          <p:cNvSpPr/>
          <p:nvPr/>
        </p:nvSpPr>
        <p:spPr>
          <a:xfrm>
            <a:off x="4140360" y="3724200"/>
            <a:ext cx="2232000" cy="935280"/>
          </a:xfrm>
          <a:prstGeom prst="ellipse">
            <a:avLst/>
          </a:pr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108000" y="1216080"/>
            <a:ext cx="3816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рафического отображения информации посредством ПТК и АСУ ТП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0" y="4084560"/>
            <a:ext cx="385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9. При проектировании цифровой ПС должны быть разработаны и впоследствии включены в состав электронной документации цифровой ПС файлы электронной конфигурации SSD и SC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179280" y="2643120"/>
            <a:ext cx="334800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0"/>
          <p:cNvSpPr/>
          <p:nvPr/>
        </p:nvSpPr>
        <p:spPr>
          <a:xfrm>
            <a:off x="0" y="3219480"/>
            <a:ext cx="39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ифровой питающий центр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ебования к технологическому проектировани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ифровых подстанций напряжением 110-220 к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узловых цифровых подстанций напряжением 35 к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2"/>
          <a:stretch/>
        </p:blipFill>
        <p:spPr>
          <a:xfrm>
            <a:off x="23760" y="588960"/>
            <a:ext cx="3816360" cy="612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"/>
          <p:cNvPicPr/>
          <p:nvPr/>
        </p:nvPicPr>
        <p:blipFill>
          <a:blip r:embed="rId3"/>
          <a:stretch/>
        </p:blipFill>
        <p:spPr>
          <a:xfrm>
            <a:off x="3924360" y="627120"/>
            <a:ext cx="5111640" cy="423864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6"/>
          <p:cNvSpPr/>
          <p:nvPr/>
        </p:nvSpPr>
        <p:spPr>
          <a:xfrm>
            <a:off x="6553080" y="480384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BA6-B735-44C1-A933-D4393E0E6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258920" y="50760"/>
            <a:ext cx="696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информационной модели по МЭК 61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55480"/>
            <a:ext cx="709308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248000" y="3457440"/>
            <a:ext cx="489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SCD файле представл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ервичное оборудование с принадлежностью к РУ и ячейка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опология главной схемы (выводы оборудования и узлы связ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логические узлы, реализующие функции автомат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ЭУ (IE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строй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цифровая с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для каждого оборудования предусмотрены его координаты на схем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1"/>
          <p:cNvSpPr/>
          <p:nvPr/>
        </p:nvSpPr>
        <p:spPr>
          <a:xfrm>
            <a:off x="6553080" y="48070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EF59-2088-4ED4-9456-6436CE191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Структурная схе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6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вязь данных логических узлов с элементами мнемо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2697840" y="627120"/>
            <a:ext cx="161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Level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Объект 7"/>
          <p:cNvGraphicFramePr/>
          <p:nvPr/>
        </p:nvGraphicFramePr>
        <p:xfrm>
          <a:off x="826920" y="1112760"/>
          <a:ext cx="736632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12760"/>
                    <a:ext cx="73663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6" name="Прямая со стрелкой 13"/>
          <p:cNvCxnSpPr>
            <a:stCxn id="73" idx="2"/>
          </p:cNvCxnSpPr>
          <p:nvPr/>
        </p:nvCxnSpPr>
        <p:spPr>
          <a:xfrm flipH="1">
            <a:off x="3491640" y="934920"/>
            <a:ext cx="11880" cy="342000"/>
          </a:xfrm>
          <a:prstGeom prst="straightConnector1">
            <a:avLst/>
          </a:prstGeom>
          <a:ln w="25560">
            <a:solidFill>
              <a:srgbClr val="7575d1"/>
            </a:solidFill>
            <a:miter/>
            <a:tailEnd len="med" type="arrow" w="med"/>
          </a:ln>
        </p:spPr>
      </p:cxnSp>
      <p:sp>
        <p:nvSpPr>
          <p:cNvPr id="77" name="Номер слайда 5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74F8-F04F-4281-8468-CD64118A27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VG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формат для граф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611280" y="3003480"/>
            <a:ext cx="792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матизированное формирование мнемосхем возможно только при наличии открытого формата входных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D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ременные разработки широко используют формат масштабируемой векторной графики SVG (Scalable Vector Graphics), также базирующийся 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539640" y="555480"/>
            <a:ext cx="813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SCD представляет собой текстовый файл на языке описания подстанций SCL (Substation Configuration Language) формата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55640" y="1069200"/>
            <a:ext cx="7777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Leve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10"&gt;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ltiplier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t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&gt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Присоединение ТСН 10 кВ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Equipment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Q1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BR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ключатель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x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401"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y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744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dir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ertical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od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d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AA1K1Q01A1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  <a:ea typeface="Calibri"/>
              </a:rPr>
              <a:t>ldInst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="LD0"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nClass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SWI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”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  <a:ea typeface="Calibri"/>
              </a:rPr>
              <a:t>prefix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1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”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nInst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52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5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48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48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    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ingEquipment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&gt;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763640" y="422820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&lt;rect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x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y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width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1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height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1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style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fill: none; stroke: black;"</a:t>
            </a:r>
            <a:r>
              <a:rPr b="1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/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93F9-A791-465A-8CCE-DF8E4ECD3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проекта АРМ в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CADA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y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0" y="555480"/>
            <a:ext cx="4610160" cy="4267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4716360" y="84348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Мнемосх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380360" y="8434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Шаб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CA93-698C-45C6-8F18-C5B42DCDD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4"/>
          <p:cNvCxnSpPr/>
          <p:nvPr/>
        </p:nvCxnSpPr>
        <p:spPr>
          <a:xfrm flipH="1">
            <a:off x="4139640" y="1131480"/>
            <a:ext cx="719640" cy="93564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pic>
        <p:nvPicPr>
          <p:cNvPr id="94" name="Picture 12" descr=""/>
          <p:cNvPicPr/>
          <p:nvPr/>
        </p:nvPicPr>
        <p:blipFill>
          <a:blip r:embed="rId2"/>
          <a:stretch/>
        </p:blipFill>
        <p:spPr>
          <a:xfrm>
            <a:off x="5148360" y="2066760"/>
            <a:ext cx="3456000" cy="2932200"/>
          </a:xfrm>
          <a:prstGeom prst="rect">
            <a:avLst/>
          </a:prstGeom>
          <a:ln w="0">
            <a:noFill/>
          </a:ln>
        </p:spPr>
      </p:pic>
      <p:cxnSp>
        <p:nvCxnSpPr>
          <p:cNvPr id="95" name="Прямая со стрелкой 12"/>
          <p:cNvCxnSpPr/>
          <p:nvPr/>
        </p:nvCxnSpPr>
        <p:spPr>
          <a:xfrm>
            <a:off x="7811640" y="1131480"/>
            <a:ext cx="1080" cy="8643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проекта АРМ в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CADA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y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24360" y="5558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Мнемосх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067280" y="1708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Шаб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484360" y="9165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me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148360" y="91656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me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771640" y="199548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s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724360" y="199548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s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1"/>
          <a:stretch/>
        </p:blipFill>
        <p:spPr>
          <a:xfrm>
            <a:off x="395280" y="2211480"/>
            <a:ext cx="4032360" cy="238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"/>
          <p:cNvPicPr/>
          <p:nvPr/>
        </p:nvPicPr>
        <p:blipFill>
          <a:blip r:embed="rId2"/>
          <a:stretch/>
        </p:blipFill>
        <p:spPr>
          <a:xfrm>
            <a:off x="0" y="1203480"/>
            <a:ext cx="4859280" cy="215640"/>
          </a:xfrm>
          <a:prstGeom prst="rect">
            <a:avLst/>
          </a:prstGeom>
          <a:ln w="0">
            <a:noFill/>
          </a:ln>
        </p:spPr>
      </p:pic>
      <p:cxnSp>
        <p:nvCxnSpPr>
          <p:cNvPr id="107" name="Прямая со стрелкой 18"/>
          <p:cNvCxnSpPr/>
          <p:nvPr/>
        </p:nvCxnSpPr>
        <p:spPr>
          <a:xfrm>
            <a:off x="2195640" y="1418760"/>
            <a:ext cx="792720" cy="577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>
            <a:off x="1042200" y="1418760"/>
            <a:ext cx="2089800" cy="793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09" name="Прямоугольник 22"/>
          <p:cNvSpPr/>
          <p:nvPr/>
        </p:nvSpPr>
        <p:spPr>
          <a:xfrm>
            <a:off x="4932360" y="1131840"/>
            <a:ext cx="396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stOpcObjs NameObj="Q" OpcName="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П3\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\0001)" VisNoCon="false" VisAsParent="true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"/>
          <p:cNvPicPr/>
          <p:nvPr/>
        </p:nvPicPr>
        <p:blipFill>
          <a:blip r:embed="rId3"/>
          <a:stretch/>
        </p:blipFill>
        <p:spPr>
          <a:xfrm>
            <a:off x="4500720" y="2355840"/>
            <a:ext cx="4643280" cy="190512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25"/>
          <p:cNvCxnSpPr/>
          <p:nvPr/>
        </p:nvCxnSpPr>
        <p:spPr>
          <a:xfrm flipV="1">
            <a:off x="1258560" y="2426760"/>
            <a:ext cx="4034520" cy="21672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12" name="Rectangle 7"/>
          <p:cNvSpPr/>
          <p:nvPr/>
        </p:nvSpPr>
        <p:spPr>
          <a:xfrm>
            <a:off x="6227640" y="156384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сылка на структурированную переменну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Прямая со стрелкой 32"/>
          <p:cNvCxnSpPr/>
          <p:nvPr/>
        </p:nvCxnSpPr>
        <p:spPr>
          <a:xfrm flipV="1">
            <a:off x="7524360" y="1347480"/>
            <a:ext cx="1080" cy="288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14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7BB9-9000-46C3-8F4B-6EEC86507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39640" y="0"/>
            <a:ext cx="813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Ис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08000" y="1073160"/>
            <a:ext cx="777708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Leve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L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10"&gt;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ltiplier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t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&gt;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/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Присоединение ТСН 10 кВ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Equipment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Q1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BR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ключатель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x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401"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y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744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dir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ertical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ode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d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AA1K1Q01A1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Verdana"/>
                <a:ea typeface="Calibri"/>
              </a:rPr>
              <a:t>ldInst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="LD0"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nClass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SWI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”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Verdana"/>
                <a:ea typeface="Calibri"/>
              </a:rPr>
              <a:t>prefix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1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”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nInst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52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52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48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48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     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ingEquipment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&gt;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835280" y="3292560"/>
            <a:ext cx="7175520" cy="17208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50920" y="627120"/>
            <a:ext cx="12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фай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5003640" y="2932200"/>
            <a:ext cx="39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шаблонов элементов (типовых блок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10"/>
          <p:cNvCxnSpPr/>
          <p:nvPr/>
        </p:nvCxnSpPr>
        <p:spPr>
          <a:xfrm flipH="1">
            <a:off x="2268360" y="1635120"/>
            <a:ext cx="648360" cy="1658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3" name="Прямая со стрелкой 12"/>
          <p:cNvCxnSpPr/>
          <p:nvPr/>
        </p:nvCxnSpPr>
        <p:spPr>
          <a:xfrm flipH="1">
            <a:off x="2555280" y="1779120"/>
            <a:ext cx="432360" cy="15138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4" name="Прямая со стрелкой 17"/>
          <p:cNvCxnSpPr/>
          <p:nvPr/>
        </p:nvCxnSpPr>
        <p:spPr>
          <a:xfrm>
            <a:off x="1186920" y="2139480"/>
            <a:ext cx="3817080" cy="1585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5" name="Прямая со стрелкой 19"/>
          <p:cNvCxnSpPr/>
          <p:nvPr/>
        </p:nvCxnSpPr>
        <p:spPr>
          <a:xfrm>
            <a:off x="1115640" y="2500200"/>
            <a:ext cx="3817080" cy="1512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26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A92F-3ED5-47F6-AD42-CC1C07F2F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0"/>
            <a:ext cx="792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Алгоритм форм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648360"/>
            <a:ext cx="8282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УГО из шаблон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На основе данных о расположении оборудования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CD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УГО типовых блоков можно расставить на чертеже мнемосхемы простейши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адратно гнездов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тодом, задавая каждому блоку его уникальное обознач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единение аппарато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снове данных о подключениях выводов оборудования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ermina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 к узлам связи (connectivityNode). Определение координат узла связи может быть выполнено на основе анализа топологического графа схемы, вершинами которого являются координаты выводов подключенных УГО оборудования и узлов связ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индикаторов места управл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о данным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o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огических узл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SW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вязанных с оборудова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индикаторов аналоговых сигнал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На основе логических узл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MXU, MMX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ходящих в наборы данных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DataSet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, передаваемых п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M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ь УГО с переменными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динамизации элементов схемы. Для этого могут использоваться описания объектов данных логических узлов, которые затем долж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связаны с сигналами объекта управления. Например, в логическом узле управления коммутационным аппаратом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SW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 положение выключателя - AA1K1Q01A1$LD0$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CSWI1$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o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A00C-5EEE-4C14-9787-8999E11CC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9:48:19Z</dcterms:created>
  <dc:creator>Acer</dc:creator>
  <dc:description/>
  <dc:language>en-US</dc:language>
  <cp:lastModifiedBy>Пользователь Windows</cp:lastModifiedBy>
  <dcterms:modified xsi:type="dcterms:W3CDTF">2024-04-15T13:15:06Z</dcterms:modified>
  <cp:revision>472</cp:revision>
  <dc:subject/>
  <dc:title>Слайд 1</dc:title>
</cp:coreProperties>
</file>