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215640" y="812520"/>
            <a:ext cx="7116840" cy="39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024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024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9FF2B-78FC-4707-A62E-1388932BCE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51252-0687-4BBF-91E5-31F1D6505D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51132-0384-4BC7-B764-0D8B0EFE473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EBD9C-870D-478C-8885-7A05C9DA0A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4CDD2-E355-4816-BE53-508CA5AA1C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9BF1D-0EC4-4B80-87B6-DD0A47800B0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8B0ED-B609-4793-8E62-5C3A69A69C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85241-CA83-4651-A35C-FABF742C06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8F273-8D17-491B-A0F4-BF071F3EE4B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85E32-34B6-48A1-9DFD-5C756C2584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DB24F-F9A8-4173-8CC9-4266400D65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5C804-4971-476B-8A90-0303378A8E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77F21-2FC1-4B8D-B3E6-B65FF2A6F4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9454A-C3F9-46B0-ADA1-D6D9385BD8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E0457-E01C-4003-986D-51BE952E178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86AD-47DA-4D7E-90FF-348D79AA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597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38400"/>
            <a:ext cx="90597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08CA-43DC-40CA-83ED-CCF983E4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480" y="132696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3840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480" y="303840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985E-4BF2-4888-A032-DD9A849C5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708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326960"/>
            <a:ext cx="291708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9760" y="1326960"/>
            <a:ext cx="291708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38400"/>
            <a:ext cx="291708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3038400"/>
            <a:ext cx="291708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9760" y="3038400"/>
            <a:ext cx="291708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A2CA-E7B0-4059-99AF-2491F7A0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597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4239-5D96-4C48-85A3-B41CD83F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597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FFD1-132F-4B63-9D1B-0BEE4DDA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080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480" y="1326960"/>
            <a:ext cx="442080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0872-DED2-4375-A80A-D62C180C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6895-07AF-4AC6-AEBE-04B815BA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5976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17E4-65D7-4CCD-AD56-C447B176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480" y="1326960"/>
            <a:ext cx="442080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3840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9F04-0488-4E69-9C35-598C0D19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080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32696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480" y="303840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2CDA-7FD2-4968-A499-90E5CA4E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32696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38400"/>
            <a:ext cx="90597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9F70-3FA3-4891-9245-375D995A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597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4000"/>
          </a:bodyPr>
          <a:p>
            <a:pPr marL="25380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53800" indent="-25380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53800" indent="-25380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53800" indent="-25380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53800" indent="-25380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53800" indent="-25380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53800" indent="-25380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3676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8456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3712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A941E29-07AE-4177-A20F-CB2574E712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emant/" TargetMode="External"/><Relationship Id="rId3" Type="http://schemas.openxmlformats.org/officeDocument/2006/relationships/hyperlink" Target="http://www.w3.or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02920" y="720360"/>
            <a:ext cx="9070920" cy="270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нение онтологий для анализа функционального описания терминала Р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04720" y="3600360"/>
            <a:ext cx="907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ct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Петров С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ЗА-Форум, Чебоксары 20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щ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МТ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ступень МТ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измерительный орга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уставка срабаты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коэффициент возвра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2920" y="728280"/>
            <a:ext cx="907092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з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«коэффициент возврата» часть «измерительный орган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«уставка срабатывания» часть «измерительный орган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«измерительный орган» часть «ступень МТЗ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«ступень МТЗ» часть «МТЗ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ждый занят своим дел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эксперт ПрО описывает ПрО и онтологи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программист разрабатывает П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* РЭ по эксплуатации терминала БЭ2502.А020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Т Р ИСО/МЭК 21838-1-20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тологическое моделирование предприятий: методы и технологии. Уральский университет 201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ршков С. Введение в онтологическое моделирование. ООО «ТриниДат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ехун Я. А. Онтологии в системах, основанных на знаниях: возможности их приме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502920" y="720720"/>
            <a:ext cx="907092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62"/>
              </a:spcBef>
              <a:spcAft>
                <a:spcPts val="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ча эксперта предметной области (ПрО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исание П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зультат выполнения 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технические требования (ТТ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техническое задание (ТЗ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функциональное описание устройст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чи программис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изучение П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анализ П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взаимодействие с экспертом П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разработка П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достат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время на взаимодействие с экспертом П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возможное неверное толкование П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недопонимание описания П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 устранения недостатк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минимизация участия программиста в анали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 (в идеале исключени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анализ ПрО при помощи онтолог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тология есть артефакт на основе терминов и отношений, выраженных с использованием естественного языка. В то же время онтология есть артефакт, предназначенный для использования компьюте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Т Р ИСО/МЭК 21838-1-20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тология содействует обеспечению смыслового обмена, т. к. её термины связаны с формальными определениями значений, представленных таким образом, чтобы их можно было обрабатывать вычислительными систем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Т Р ИСО/МЭК 21838-1-20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ализ ПрО при помощи онтологий включ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декомпозиция ПрО (выявление сущностей ПрО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описание свойств сущностей ПрО (определение  функциональных свойств сущностей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выявление связей сущностей П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 ПрО*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ТЗ. МТЗ имеет три ступени: МТЗ-1, МТЗ-2, МТЗ-3. Каждая из ступеней представляет собой совокупность нескольких измерительных органов (ИО), объединенных общей логикой. Каждый ИО МТЗ имеет независимую регулируемую уставку срабатывания и коэффициент возвр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2920" y="738360"/>
            <a:ext cx="907092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Resource description framework (RDF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owl:DatatypeProperty rdf:about="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seman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icweb.org/barmaley/ontologies/2024/3/untitled-ontol ogy-2#MTZ"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rdfs:subPropertyOf rdf:resource="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w3.o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g/2002/07/owl#topDataProperty"/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/owl:DatatypeProperty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4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1-23T17:30:41Z</dcterms:created>
  <dc:creator/>
  <dc:description/>
  <dc:language>en-US</dc:language>
  <cp:lastModifiedBy>s.v.petrov</cp:lastModifiedBy>
  <dcterms:modified xsi:type="dcterms:W3CDTF">2024-04-24T05:15:18Z</dcterms:modified>
  <cp:revision>43</cp:revision>
  <dc:subject/>
  <dc:title>      ФГБОУ ВО ЧГУ им. И.Н. Ульянова</dc:title>
</cp:coreProperties>
</file>