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5640" y="812520"/>
            <a:ext cx="711684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C9AB0-1975-4B81-AE1C-A30E9905E5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9DCA3-A50F-4903-AA36-1526A20B59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09393-BC7F-40F6-8EFB-863FD742DF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253FB-0161-40B1-86C0-78250118A4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614D2-D71B-45DE-BE4A-3F70E42FE8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EE9CC-A985-49DA-BBDC-1AA6856A2D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44194-29C9-4C83-9BFE-EC06349637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68884-EB74-4985-AFD6-8CCE8C0C96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2E4E1-2B13-4A8D-9CE4-F5D07122D9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E815D-9BCA-479C-B4EC-825231A73F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75A43-889B-4A07-81C6-C8424AAA20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F9D9A-77F1-462E-AF09-CD17987406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C58C6-6DFE-4207-8E54-0DF3ADEC69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FE66B-B067-4248-B202-0619760BA5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DF7FE-0F51-4260-9B61-88A1A96BC2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157-2F5F-4EAD-96C4-F2EBBF97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3840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512-ECAE-4B1F-B179-2C32C318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CF2-F25B-472B-BDEB-04E87E87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3BE-4C3B-41FF-98BC-3C0AE588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95B-E391-4867-96EA-69E306D9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F83-AFF6-4C83-9A60-B1D82980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ADF-47D0-4F88-940B-D60AA99C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E2A-20C2-4FFE-88A1-BE41A1B8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5976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32D-6A28-4B05-BE20-162ED590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E2C-863A-4909-A5A9-A5F1F132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8ED-A900-4745-B499-48CED126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0BE-4702-417C-A8E7-145C33C0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4000"/>
          </a:bodyPr>
          <a:p>
            <a:pPr marL="25380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367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845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371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840505-609E-4FE7-B271-0AB5B36CCF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mant/" TargetMode="External"/><Relationship Id="rId3" Type="http://schemas.openxmlformats.org/officeDocument/2006/relationships/hyperlink" Target="http://www.w3.or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720360"/>
            <a:ext cx="907092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онтологий для анализа функционального описания терминала Р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04720" y="3600360"/>
            <a:ext cx="907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Петров С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ЗА-Форум, Чебоксары 20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Т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тупень МТ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змерительный орг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уставка срабаты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эффициент возвр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2920" y="728280"/>
            <a:ext cx="907092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коэффициент возврата» часть «измерительный орга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уставка срабатывания» часть «измерительный орга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измерительный орган» часть «ступень МТ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ступень МТЗ» часть «МТ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занят своим де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ксперт ПрО описывает ПрО и онтолог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рограммист разрабатывает 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 РЭ по эксплуатации терминала БЭ2502.А02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ческое моделирование предприятий: методы и технологии. Уральский университет 20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шков С. Введение в онтологическое моделирование. ООО «ТриниДат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хун Я. А. Онтологии в системах, основанных на знаниях: возможности их при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2920" y="720720"/>
            <a:ext cx="907092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эксперта предметной области (Пр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ание П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выполнения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технические требования (Т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техническое задание (ТЗ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функциональное описание устрой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и программ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зучение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анализ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заимодействие с экспертом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разработка 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ремя на взаимодействие с экспертом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озможное неверное толкование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едопонимание описания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 устранения недостат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инимизация участия программиста в анали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 (в идеале исключе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анализ ПрО при помощи онт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я есть артефакт на основе терминов и отношений, выраженных с использованием естественного языка. В то же время онтология есть артефакт, предназначенный для использования компью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я содействует обеспечению смыслового обмена, т. к. её термины связаны с формальными определениями значений, представленных таким образом, чтобы их можно было обрабатывать вычислительными систе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ПрО при помощи онтологий включ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екомпозиция ПрО (выявление сущностей Пр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описание свойств сущностей ПрО (определение  функциональных свойств сущнос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ыявление связей сущностей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рО*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ТЗ. МТЗ имеет три ступени: МТЗ-1, МТЗ-2, МТЗ-3. Каждая из ступеней представляет собой совокупность нескольких измерительных органов (ИО), объединенных общей логикой. Каждый ИО МТЗ имеет независимую регулируемую уставку срабатывания и коэффициент воз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738360"/>
            <a:ext cx="90709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esource description framework (RD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owl:DatatypeProperty rdf:about="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ema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icweb.org/barmaley/ontologies/2024/3/untitled-ontol ogy-2#MTZ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rdfs:subPropertyOf rdf:resource="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w3.o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g/2002/07/owl#topDataProperty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/owl:DatatypePropert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3T17:30:41Z</dcterms:created>
  <dc:creator/>
  <dc:description/>
  <dc:language>en-US</dc:language>
  <cp:lastModifiedBy>s.v.petrov</cp:lastModifiedBy>
  <dcterms:modified xsi:type="dcterms:W3CDTF">2024-04-24T05:15:18Z</dcterms:modified>
  <cp:revision>43</cp:revision>
  <dc:subject/>
  <dc:title>      ФГБОУ ВО ЧГУ им. И.Н. Ульянова</dc:title>
</cp:coreProperties>
</file>