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5640" y="812520"/>
            <a:ext cx="711684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EDF68-0F75-4917-86C9-920614624A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965C0-9976-4235-AE74-90E92F4ACB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A722A-2C25-4F79-B4D7-644D8C2909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A06BB-0F7B-4D5D-BD64-031DF3DFB6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C7521-C25D-40A4-AE66-CA5ADCBA9D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4242D-9F80-47DD-AB55-26C4109CF7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C9D3C-4BD6-4153-901F-781AFC6F14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82703-292A-430A-8819-8E4016F2B1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6CF61-C363-4627-838B-EA9269B952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5705A-316F-448C-9E59-01E4A04ECE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A4036-5660-4173-8313-E6E7C3FBCE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598C9-0CF0-4A90-88D9-A159EF7D71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F1F40-4378-4842-82BF-4B1DBE4F52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6CFDE-9051-4216-9834-06E30B9518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EAB21-EE4D-4768-90A3-D442A5798D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5A5-A2AF-43F6-A316-3919FECA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3840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1EB-7590-4E42-BF78-A2EA29D4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736-9E30-41FC-A34A-90A4E595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DA1-9B17-4CDF-9153-B230BE41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4A2-6A8F-4C06-8580-00AC40D2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866-B08B-4748-AC1D-EAB2CD74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34A-AE16-4F8B-8EBA-9E250D87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028-86AC-4C15-9847-B8F493C8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5976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02C-8748-45DC-86FA-23A6C68C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1E8-27E8-4C9E-92CF-C9778F3A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3B6-D8AC-4B8A-9CB0-8FB974AF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333-2C2E-4AD5-A239-C480BFA3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4000"/>
          </a:bodyPr>
          <a:p>
            <a:pPr marL="25380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367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845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371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6D531B-AA03-44A4-A70E-6557649383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mant/" TargetMode="External"/><Relationship Id="rId3" Type="http://schemas.openxmlformats.org/officeDocument/2006/relationships/hyperlink" Target="http://www.w3.or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720360"/>
            <a:ext cx="907092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онтологий для анализа функционального описания терминала Р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04720" y="3600360"/>
            <a:ext cx="907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Петров С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ЗА-Форум, Чебоксары 20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Т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тупень МТ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змерительный орг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уставка срабаты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эффициент возвр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2920" y="728280"/>
            <a:ext cx="907092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коэффициент возврата» часть «измерительный орга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уставка срабатывания» часть «измерительный орга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измерительный орган» часть «ступень МТ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ступень МТЗ» часть «МТ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занят своим де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ксперт ПрО описывает ПрО и онтолог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рограммист разрабатывает 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 РЭ по эксплуатации терминала БЭ2502.А02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ческое моделирование предприятий: методы и технологии. Уральский университет 20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шков С. Введение в онтологическое моделирование. ООО «ТриниДат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хун Я. А. Онтологии в системах, основанных на знаниях: возможности их при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2920" y="720720"/>
            <a:ext cx="907092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эксперта предметной области (Пр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ание П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выполнения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технические требования (Т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техническое задание (ТЗ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функциональное описание устрой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и программ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зучение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анализ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заимодействие с экспертом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разработка 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ремя на взаимодействие с экспертом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озможное неверное толкование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едопонимание описания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 устранения недостат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инимизация участия программиста в анали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 (в идеале исключе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анализ ПрО при помощи онт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я есть артефакт на основе терминов и отношений, выраженных с использованием естественного языка. В то же время онтология есть артефакт, предназначенный для использования компью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я содействует обеспечению смыслового обмена, т. к. её термины связаны с формальными определениями значений, представленных таким образом, чтобы их можно было обрабатывать вычислительными систе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ПрО при помощи онтологий включ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екомпозиция ПрО (выявление сущностей Пр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описание свойств сущностей ПрО (определение  функциональных свойств сущнос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ыявление связей сущностей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рО*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ТЗ. МТЗ имеет три ступени: МТЗ-1, МТЗ-2, МТЗ-3. Каждая из ступеней представляет собой совокупность нескольких измерительных органов (ИО), объединенных общей логикой. Каждый ИО МТЗ имеет независимую регулируемую уставку срабатывания и коэффициент воз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738360"/>
            <a:ext cx="90709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esource description framework (RD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owl:DatatypeProperty rdf:about="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ema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icweb.org/barmaley/ontologies/2024/3/untitled-ontol ogy-2#MTZ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rdfs:subPropertyOf rdf:resource="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w3.o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g/2002/07/owl#topDataProperty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/owl:DatatypePropert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3T17:30:41Z</dcterms:created>
  <dc:creator/>
  <dc:description/>
  <dc:language>en-US</dc:language>
  <cp:lastModifiedBy>s.v.petrov</cp:lastModifiedBy>
  <dcterms:modified xsi:type="dcterms:W3CDTF">2024-04-24T05:15:18Z</dcterms:modified>
  <cp:revision>43</cp:revision>
  <dc:subject/>
  <dc:title>      ФГБОУ ВО ЧГУ им. И.Н. Ульянова</dc:title>
</cp:coreProperties>
</file>